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417-9422-4672-9C95-48357A85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C5C-2FED-4206-AF5F-8607610D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846-17EE-4F1C-A7E7-42FEEA87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657-0404-4C02-BE05-CF8DCA34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D7C3-EA2A-45CE-A8A4-AB90CFBC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064C-F6F5-496F-9D26-0EAF488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9C2D-23D0-4413-97EB-C4D15DC6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79C3-1FDE-41E6-98B2-B0907FB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CC05-3AB3-4AAE-9260-00C09FD4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6780240" cy="88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F888-7FB4-4F2D-B4BD-6223812B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71E6-83F6-4968-A40F-C0DC7FED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DD0-B776-4419-AC05-23299F01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44E7-515A-4538-9532-BDB796C4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7CE6-C02B-4619-8E62-F2EB225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FAB9-F6B0-444F-B203-AF5573F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E29C-4EF5-47FF-B8F5-7587BFE9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6127-15A0-40E5-A3E3-FDB9D33C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6BB-0BF2-4468-8288-1AE3EA5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2D6-1C66-4AB6-8444-EE153E9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72D-BE64-4F77-A82E-877E5D6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6780240" cy="88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2D2-6009-4696-828E-E0E70B5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05F-9C4E-427D-A70F-5D3A8FE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A54-52C3-4EF5-9266-B8B6B9E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808-6DAD-4E1B-9432-DA37437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222D-F5E8-464C-97BF-7B8EB34FFEF3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54BE-CDCE-442F-B734-8FEA2EB0CE64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780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. 15, 2011 Warm-up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438280" y="16761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942 + 3.93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35.52 - 184.5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4.45 ÷ 11.398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3.393 x 74.25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 Household Budge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jective:  Students will perform all operations with decimals while managing household expenses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80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Basics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192320"/>
            <a:ext cx="58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ch group will be a family keeping track of the family finances while completing real world activitie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ch day, your family will receive an envelope of bills, receipts, paychecks, grocery lists, etc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family will work together to decide how to handle the contents of the envelope, making deposits and withdrawals to the check register keeping track of the budge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t the end of the week, the family records will be turned in for a grade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3760" y="380880"/>
            <a:ext cx="6780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19520" y="1467000"/>
            <a:ext cx="5943600" cy="39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will be based on accurately performing the correct operations with each activity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ing bills (1 pt/bill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rding debit card withdrawals (1 pt/each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ositing checks (1pt/check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cery Shopping Activity (4 pts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ting Out Activity (4 pts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/20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Keeping…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7040" y="28951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File Includes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Register Pag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pt Envelop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780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Started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133720" y="609480"/>
            <a:ext cx="6858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a regi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i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 (Each family will begin with $528.32)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Chec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to the Order of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and word form (fraction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t Slip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Cash Receiv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Deposi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17 OD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0:58:55Z</dcterms:created>
  <dc:creator>Brian McGrath</dc:creator>
  <dc:description/>
  <dc:language>en-US</dc:language>
  <cp:lastModifiedBy>Brian McGrath</cp:lastModifiedBy>
  <dcterms:modified xsi:type="dcterms:W3CDTF">2011-11-15T02:36:16Z</dcterms:modified>
  <cp:revision>3</cp:revision>
  <dc:subject/>
  <dc:title>Course 2 Household Budget</dc:title>
</cp:coreProperties>
</file>